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14.png" ContentType="image/png"/>
  <Override PartName="/ppt/media/image5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32EA51-FD7D-4B19-80B7-89B16BFC1CC5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BE689E-147E-4C46-B02F-89F46F68BC25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2226D9E-2579-4BD6-83D4-CFF4702E00A1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E46D5D50-6BFA-4BCC-BD79-821AB5903016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hyperlink" Target="http://www.phoneyworld.com/handsets/overview.aspx?phone=siemens_a70" TargetMode="External"/><Relationship Id="rId10" Type="http://schemas.openxmlformats.org/officeDocument/2006/relationships/image" Target="../media/image12.png"/><Relationship Id="rId11" Type="http://schemas.openxmlformats.org/officeDocument/2006/relationships/hyperlink" Target="http://www.phoneyworld.com/handsets/overview.aspx?phone=siemens_a75" TargetMode="External"/><Relationship Id="rId12" Type="http://schemas.openxmlformats.org/officeDocument/2006/relationships/image" Target="../media/image13.png"/><Relationship Id="rId13" Type="http://schemas.openxmlformats.org/officeDocument/2006/relationships/hyperlink" Target="http://www.phoneyworld.com/handsets/overview.aspx?phone=siemens_ax75" TargetMode="External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Minion"/>
              </a:rPr>
              <a:t>Webcast / All-hands Meet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76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lemens J. Jo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 – March 17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298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ales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880" y="1038240"/>
            <a:ext cx="82472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inforcement of regional management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irect reporting line to CEO – No Global Sal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sia responsibilities reassigned to H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enis Morel will assume responsibility for Western Eur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Josef Forer is nominated as Eastern Europe 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He will assume regional coordination and be a member of the Extended Management Board (EM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MEA will be assigned to 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gnment of Sales BA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gional Business Administration (RM BA) and Sales Operations and Controlling (SOC) need to be closer aligned to further streamline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Marketing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14520"/>
            <a:ext cx="8305920" cy="38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Category Management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to focus on building the brand, championing market development and product communica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ove of field marketing into regions to be closer to the sales reg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Operations (MO) function installed to drive optimization of roles and processes to stabilize and continuously improve the global marketing organization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077320" y="3646440"/>
            <a:ext cx="0" cy="16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35400" y="1954080"/>
            <a:ext cx="0" cy="16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8920" y="3009960"/>
            <a:ext cx="3316320" cy="30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2160" y="2185920"/>
            <a:ext cx="3306600" cy="8240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51000" y="1103400"/>
            <a:ext cx="3313080" cy="86364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54320" y="3782880"/>
            <a:ext cx="100044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4120" y="3782880"/>
            <a:ext cx="144324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7480" y="3782880"/>
            <a:ext cx="121140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3782880"/>
            <a:ext cx="107496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00960" y="3782880"/>
            <a:ext cx="156996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8400" y="3782880"/>
            <a:ext cx="100044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" y="281160"/>
            <a:ext cx="7010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Global Marketing Organization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3" name=""/>
          <p:cNvSpPr/>
          <p:nvPr/>
        </p:nvSpPr>
        <p:spPr>
          <a:xfrm>
            <a:off x="1093680" y="5675400"/>
            <a:ext cx="259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8360" y="509904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8360" y="1228680"/>
            <a:ext cx="402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hief Marketing Officer (C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Richard Le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8440" y="2151000"/>
            <a:ext cx="38656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 Operations (MO)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nagement &amp; CMO Deputy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9080" y="3792600"/>
            <a:ext cx="125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r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tefan Lo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3800" y="3790800"/>
            <a:ext cx="193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ccount Marke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m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channewitz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5360" y="3772080"/>
            <a:ext cx="13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evina K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5400" y="3772080"/>
            <a:ext cx="11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Brand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Nina Bra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91400" y="3772080"/>
            <a:ext cx="12474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thia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Gil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37320" y="3784680"/>
            <a:ext cx="16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WE, EE, LAM,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2760" y="29527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O/MO Ass. F. Biberg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448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97360" y="361800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5624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624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4488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6320" y="5235480"/>
            <a:ext cx="474840" cy="3272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2800" y="5775480"/>
            <a:ext cx="474480" cy="326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68760" y="154296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75240" y="263988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7000" y="1527120"/>
            <a:ext cx="0" cy="10573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07000" y="2201760"/>
            <a:ext cx="2955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1793880"/>
            <a:ext cx="135072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28400" y="1851120"/>
            <a:ext cx="15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lke Cor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360684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80120" y="3782880"/>
            <a:ext cx="124308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4760" y="3772080"/>
            <a:ext cx="14760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Mk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u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u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960" y="360684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56480" y="35942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3320" y="50400"/>
            <a:ext cx="811836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8520"/>
            <a:ext cx="8601120" cy="44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Global Marketing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Develop the four categories through product development, portfolio and lifecycle management 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ategory Managers to drive the portfolio process and product roadmap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Translate the expected market requirements into marketable value proposi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Kickoff of innovative projects to address mid-term market disrup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assign technical functions (e.g. SW architecture, etc.) to R&amp;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Assign IPR and standardization resources to BMG ISR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" y="5115240"/>
            <a:ext cx="810252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tails of transfer will be specified within March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"/>
          <p:cNvSpPr/>
          <p:nvPr/>
        </p:nvSpPr>
        <p:spPr>
          <a:xfrm>
            <a:off x="500688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9600" y="849240"/>
            <a:ext cx="4608360" cy="6494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ategory Management</a:t>
            </a:r>
            <a:br>
              <a:rPr sz="20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hil Mulholland &amp; Harrison Chang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92888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ans-Joachim G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4780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Image &amp;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Bettina Siegw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36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Affordabl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Katrin Bra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08924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a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tefan Re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480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VA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ernot v. Natz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30880" y="1928880"/>
            <a:ext cx="21574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ortfolio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r. Sebastian H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240" y="1928880"/>
            <a:ext cx="1800360" cy="1109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nov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echnolog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Uwe Sy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59240" y="318132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Innovation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9240" y="3902040"/>
            <a:ext cx="1584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y &amp;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19960" y="6032520"/>
            <a:ext cx="1800000" cy="649440"/>
          </a:xfrm>
          <a:prstGeom prst="rect">
            <a:avLst/>
          </a:prstGeom>
          <a:solidFill>
            <a:srgbClr val="e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nsumer Ins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il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19960" y="264780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ortfolio Strategy &amp;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19960" y="336852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Key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Strategy &amp; M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19960" y="4087800"/>
            <a:ext cx="180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9960" y="5097600"/>
            <a:ext cx="180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pplications &amp; </a:t>
            </a: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artner Developmt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9240" y="16416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6880" y="17845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4880" y="3035160"/>
            <a:ext cx="0" cy="12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14880" y="4334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4880" y="3540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300360" y="2505240"/>
            <a:ext cx="324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03960" y="286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03960" y="3656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3960" y="4303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03960" y="567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5529240"/>
            <a:ext cx="2522520" cy="57636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Taip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hinlung 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78" idx="2"/>
            <a:endCxn id="179" idx="3"/>
          </p:cNvCxnSpPr>
          <p:nvPr/>
        </p:nvCxnSpPr>
        <p:spPr>
          <a:xfrm rot="5400000">
            <a:off x="3026160" y="1459440"/>
            <a:ext cx="71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78" idx="2"/>
            <a:endCxn id="180" idx="3"/>
          </p:cNvCxnSpPr>
          <p:nvPr/>
        </p:nvCxnSpPr>
        <p:spPr>
          <a:xfrm rot="5400000">
            <a:off x="2666520" y="1819080"/>
            <a:ext cx="143892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78" idx="2"/>
            <a:endCxn id="181" idx="3"/>
          </p:cNvCxnSpPr>
          <p:nvPr/>
        </p:nvCxnSpPr>
        <p:spPr>
          <a:xfrm rot="5400000">
            <a:off x="2306160" y="2179440"/>
            <a:ext cx="215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78" idx="2"/>
            <a:endCxn id="182" idx="3"/>
          </p:cNvCxnSpPr>
          <p:nvPr/>
        </p:nvCxnSpPr>
        <p:spPr>
          <a:xfrm rot="5400000">
            <a:off x="1945800" y="2539800"/>
            <a:ext cx="288036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78" idx="2"/>
            <a:endCxn id="183" idx="3"/>
          </p:cNvCxnSpPr>
          <p:nvPr/>
        </p:nvCxnSpPr>
        <p:spPr>
          <a:xfrm rot="5400000">
            <a:off x="1586160" y="2899440"/>
            <a:ext cx="359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78" idx="2"/>
            <a:endCxn id="203" idx="3"/>
          </p:cNvCxnSpPr>
          <p:nvPr/>
        </p:nvCxnSpPr>
        <p:spPr>
          <a:xfrm rot="5400000">
            <a:off x="1227240" y="3261240"/>
            <a:ext cx="4320360" cy="794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 flipH="1">
            <a:off x="3782520" y="16416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084360" y="11383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48360" y="851040"/>
            <a:ext cx="1511280" cy="64764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oland Schmi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512604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Disru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13080" y="4259160"/>
            <a:ext cx="0" cy="12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13080" y="5557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16720" y="4594320"/>
            <a:ext cx="1800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48830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-1638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asoning for bringing both Product Hous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5080" y="993600"/>
            <a:ext cx="8624880" cy="10368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7440" y="993600"/>
            <a:ext cx="2246400" cy="103680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3" y="0"/>
                </a:lnTo>
                <a:lnTo>
                  <a:pt x="21600" y="10800"/>
                </a:lnTo>
                <a:lnTo>
                  <a:pt x="17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BMG Produc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62120" y="987480"/>
            <a:ext cx="6297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Realizing synergies / commu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tandardized targets, structures, KPIs &amp;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implified structure with clear 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Faster alignment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39800" y="2073240"/>
            <a:ext cx="8120160" cy="1953720"/>
            <a:chOff x="739800" y="2073240"/>
            <a:chExt cx="8120160" cy="1953720"/>
          </a:xfrm>
        </p:grpSpPr>
        <p:sp>
          <p:nvSpPr>
            <p:cNvPr id="224" name=""/>
            <p:cNvSpPr/>
            <p:nvPr/>
          </p:nvSpPr>
          <p:spPr>
            <a:xfrm>
              <a:off x="755640" y="2109960"/>
              <a:ext cx="8104320" cy="12603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800" y="2109960"/>
              <a:ext cx="1717560" cy="12603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R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Research &amp;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62120" y="2073240"/>
              <a:ext cx="629784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Increased efficiency – reuse of technologies &amp; higher uti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Clearer program responsi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ore speed and market flexibility than totally centralist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systems &amp; software architecture, predevelopments &amp; innov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eveloping global platform 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Alignment needs on system concept and 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39800" y="3446640"/>
            <a:ext cx="8120160" cy="1333800"/>
            <a:chOff x="739800" y="3446640"/>
            <a:chExt cx="8120160" cy="1333800"/>
          </a:xfrm>
        </p:grpSpPr>
        <p:sp>
          <p:nvSpPr>
            <p:cNvPr id="228" name=""/>
            <p:cNvSpPr/>
            <p:nvPr/>
          </p:nvSpPr>
          <p:spPr>
            <a:xfrm>
              <a:off x="755640" y="3454560"/>
              <a:ext cx="8104320" cy="10857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800" y="3454560"/>
              <a:ext cx="1717560" cy="10857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TP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Technical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duct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62120" y="3446640"/>
              <a:ext cx="62978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riving product realization across all Product Hous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PEED and COST focus (T2M, T2V as well as product cost, quali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Project management excel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End2end responsibility – from cradle to gr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Potential conflicts with product line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39800" y="4611600"/>
            <a:ext cx="8120160" cy="941400"/>
            <a:chOff x="739800" y="4611600"/>
            <a:chExt cx="8120160" cy="941400"/>
          </a:xfrm>
        </p:grpSpPr>
        <p:sp>
          <p:nvSpPr>
            <p:cNvPr id="232" name=""/>
            <p:cNvSpPr/>
            <p:nvPr/>
          </p:nvSpPr>
          <p:spPr>
            <a:xfrm>
              <a:off x="755640" y="4611600"/>
              <a:ext cx="8104320" cy="941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800" y="4611600"/>
              <a:ext cx="1717560" cy="9414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P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trategic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2120" y="4888080"/>
              <a:ext cx="62978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ynergy, Simplification, Better Resources Sharing &amp; Negotiation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39800" y="5629320"/>
            <a:ext cx="8120160" cy="1229760"/>
            <a:chOff x="739800" y="5629320"/>
            <a:chExt cx="8120160" cy="1229760"/>
          </a:xfrm>
        </p:grpSpPr>
        <p:sp>
          <p:nvSpPr>
            <p:cNvPr id="236" name=""/>
            <p:cNvSpPr/>
            <p:nvPr/>
          </p:nvSpPr>
          <p:spPr>
            <a:xfrm>
              <a:off x="755640" y="5629320"/>
              <a:ext cx="8104320" cy="9396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800" y="5629320"/>
              <a:ext cx="1717560" cy="9396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C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62120" y="5670720"/>
              <a:ext cx="629784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is part of regional operations – fitting to BenQ princi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can possibly be basis for multiple product ran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functions of QM, OF, TLM &amp; MO with regional off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8920" y="256680"/>
            <a:ext cx="82314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0" name=""/>
          <p:cNvSpPr/>
          <p:nvPr/>
        </p:nvSpPr>
        <p:spPr>
          <a:xfrm>
            <a:off x="7470720" y="349740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4720" y="1009800"/>
            <a:ext cx="4697280" cy="75564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73280" y="1228680"/>
            <a:ext cx="3832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Minion"/>
              </a:rPr>
              <a:t>Dr. Jochen Eickholt &amp; Dr. Irwin C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66840" y="2111400"/>
            <a:ext cx="8417880" cy="2312640"/>
            <a:chOff x="366840" y="2111400"/>
            <a:chExt cx="8417880" cy="2312640"/>
          </a:xfrm>
        </p:grpSpPr>
        <p:sp>
          <p:nvSpPr>
            <p:cNvPr id="244" name=""/>
            <p:cNvSpPr/>
            <p:nvPr/>
          </p:nvSpPr>
          <p:spPr>
            <a:xfrm>
              <a:off x="366840" y="2111400"/>
              <a:ext cx="20055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T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chnical Product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Holger Asmussen /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at Hsu /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Katrin Bra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1000" y="2111400"/>
              <a:ext cx="20095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Research &amp;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Siegfried Bocion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Yungchia Lee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32120" y="2111400"/>
              <a:ext cx="20059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trategic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resa W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Jens Danneil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80960" y="2111400"/>
              <a:ext cx="20037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Gerold Simbürger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8" name=""/>
          <p:cNvCxnSpPr>
            <a:stCxn id="241" idx="2"/>
            <a:endCxn id="244" idx="0"/>
          </p:cNvCxnSpPr>
          <p:nvPr/>
        </p:nvCxnSpPr>
        <p:spPr>
          <a:xfrm rot="5400000">
            <a:off x="2793600" y="341280"/>
            <a:ext cx="346680" cy="3194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1" idx="2"/>
            <a:endCxn id="245" idx="0"/>
          </p:cNvCxnSpPr>
          <p:nvPr/>
        </p:nvCxnSpPr>
        <p:spPr>
          <a:xfrm rot="5400000">
            <a:off x="3866760" y="1414440"/>
            <a:ext cx="346680" cy="10483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1" idx="2"/>
            <a:endCxn id="246" idx="0"/>
          </p:cNvCxnSpPr>
          <p:nvPr/>
        </p:nvCxnSpPr>
        <p:spPr>
          <a:xfrm flipH="1" rot="16200000">
            <a:off x="4925880" y="1402200"/>
            <a:ext cx="346680" cy="10724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1" idx="2"/>
            <a:endCxn id="247" idx="0"/>
          </p:cNvCxnSpPr>
          <p:nvPr/>
        </p:nvCxnSpPr>
        <p:spPr>
          <a:xfrm flipH="1" rot="16200000">
            <a:off x="5999760" y="328320"/>
            <a:ext cx="346680" cy="32202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509760" y="4659480"/>
            <a:ext cx="82468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duct House BA responsibility with L. So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TPM BA is integrated into RD BA as both organizations cope with project 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P BA is integrated in SCM BA in order to better cope with the product cost 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0600" y="4572000"/>
            <a:ext cx="8353440" cy="1706400"/>
          </a:xfrm>
          <a:prstGeom prst="rect">
            <a:avLst/>
          </a:prstGeom>
          <a:noFill/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R&amp;D with products and platforms assigned to four R&amp;D Center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19160" y="1409760"/>
            <a:ext cx="807840" cy="5387760"/>
            <a:chOff x="119160" y="1409760"/>
            <a:chExt cx="807840" cy="5387760"/>
          </a:xfrm>
        </p:grpSpPr>
        <p:sp>
          <p:nvSpPr>
            <p:cNvPr id="257" name=""/>
            <p:cNvSpPr/>
            <p:nvPr/>
          </p:nvSpPr>
          <p:spPr>
            <a:xfrm>
              <a:off x="119160" y="1409760"/>
              <a:ext cx="807840" cy="538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6120" y="147636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T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260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81000" y="1405080"/>
            <a:ext cx="62978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76560" y="341640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112760" y="2235240"/>
            <a:ext cx="5491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59200" y="14698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112760" y="2236320"/>
            <a:ext cx="28800" cy="378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131480" y="3578400"/>
            <a:ext cx="204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133640" y="4171680"/>
            <a:ext cx="204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1134720" y="481932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137960" y="542088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130040" y="602244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33360" y="330660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Process, Tools,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ethodolog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93840" y="3998880"/>
            <a:ext cx="5079960" cy="3351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5000" y="464184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5000" y="52531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5000" y="58453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35160" y="39006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Concepts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SW Arch. 3</a:t>
            </a:r>
            <a:r>
              <a:rPr b="0" lang="en-US" sz="900" spc="-1" strike="noStrike" baseline="30000">
                <a:solidFill>
                  <a:srgbClr val="3a0e66"/>
                </a:solidFill>
                <a:latin typeface="Minion"/>
              </a:rPr>
              <a:t>rd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 par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Integration, predevelopm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36600" y="454968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Industrialization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MD, layout, assemb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concept, Production 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39840" y="51498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&amp;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31920" y="5754600"/>
            <a:ext cx="1173240" cy="52704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Value Added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04920" y="1739880"/>
            <a:ext cx="972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08448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999720" y="382428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360240" y="3819240"/>
            <a:ext cx="4092480" cy="112428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23960" y="2378160"/>
            <a:ext cx="103356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unich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anaus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2177640" y="382284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22280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06920" y="2378160"/>
            <a:ext cx="103320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Taipe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Hsinch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uzho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4547880" y="3825720"/>
            <a:ext cx="4092840" cy="11239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02400" y="224316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00720" y="225108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7212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V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Kamp-Lintfort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755440" y="3155760"/>
            <a:ext cx="4087440" cy="1958760"/>
            <a:chOff x="2755440" y="3155760"/>
            <a:chExt cx="4087440" cy="1958760"/>
          </a:xfrm>
        </p:grpSpPr>
        <p:sp>
          <p:nvSpPr>
            <p:cNvPr id="297" name=""/>
            <p:cNvSpPr/>
            <p:nvPr/>
          </p:nvSpPr>
          <p:spPr>
            <a:xfrm flipH="1" flipV="1">
              <a:off x="2755440" y="315720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 rot="10800000">
              <a:off x="2880360" y="38322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 rot="10800000">
              <a:off x="2890800" y="42753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 rot="10800000">
              <a:off x="2890800" y="472500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771280" y="44622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765520" y="40230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763360" y="49003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65520" y="35712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 rot="10800000">
              <a:off x="2884320" y="33807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844440" y="315576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 rot="10800000">
              <a:off x="3969360" y="38304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 rot="10800000">
              <a:off x="3979800" y="4272840"/>
              <a:ext cx="57168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 rot="10800000">
              <a:off x="3979800" y="47235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860280" y="44611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854520" y="4020480"/>
              <a:ext cx="10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852360" y="48996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854520" y="3569760"/>
              <a:ext cx="10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 rot="10800000">
              <a:off x="3972600" y="33793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5021280" y="3163680"/>
              <a:ext cx="15840" cy="175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10800000">
              <a:off x="5146560" y="383940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 rot="10800000">
              <a:off x="5155200" y="428364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 rot="10800000">
              <a:off x="5155200" y="473328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35320" y="44701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028840" y="40309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028840" y="490788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028840" y="357804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 rot="10800000">
              <a:off x="5149800" y="338868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137280" y="3171960"/>
              <a:ext cx="1728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 rot="10800000">
              <a:off x="6262560" y="384732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 rot="10800000">
              <a:off x="6271200" y="429156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 rot="10800000">
              <a:off x="6271200" y="47401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152760" y="44784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146280" y="403920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144840" y="49158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146280" y="358596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 rot="10800000">
              <a:off x="6265800" y="339552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88808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Beijing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hangha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5600" y="1496880"/>
            <a:ext cx="2546280" cy="6001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Siegfried Bocione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Yungchai Lee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89080" y="230976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&amp;D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Technical Product Management with clear Project Management Focu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8" name=""/>
          <p:cNvSpPr/>
          <p:nvPr/>
        </p:nvSpPr>
        <p:spPr>
          <a:xfrm>
            <a:off x="119160" y="1409760"/>
            <a:ext cx="630396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9360" y="147636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341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81800" y="139392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91600" y="145584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2960" y="2568600"/>
            <a:ext cx="2633760" cy="11113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Europe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Holger Asmu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68600" y="2567160"/>
            <a:ext cx="2633760" cy="111096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Asia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 (to be set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at Hsu / act. Katrin Bra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2314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trategic Procur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2" name=""/>
          <p:cNvSpPr/>
          <p:nvPr/>
        </p:nvSpPr>
        <p:spPr>
          <a:xfrm>
            <a:off x="1835280" y="1398600"/>
            <a:ext cx="63039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93240" y="139860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9900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0240" y="146052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0320" y="140328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6120" y="146520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84240" y="140976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94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75120" y="1549440"/>
            <a:ext cx="2541600" cy="53028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Teresa W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act. Jens Danneil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1640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asic System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Framework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BS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3848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ustomized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omponent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(C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95760" y="2558880"/>
            <a:ext cx="119232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echanics, Plastic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&amp; Assembly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MP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91120" y="2557440"/>
            <a:ext cx="979560" cy="2664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Indir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terial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Site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35160" y="5797440"/>
            <a:ext cx="3705120" cy="432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Global Logistics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5160" y="529128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35160" y="478800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5160" y="2549520"/>
            <a:ext cx="884160" cy="153972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esses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Reporting &amp;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Controlling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RC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85160" y="4186080"/>
            <a:ext cx="884160" cy="154008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egal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nagement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&amp; Compliance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LM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stCxn id="361" idx="2"/>
            <a:endCxn id="364" idx="0"/>
          </p:cNvCxnSpPr>
          <p:nvPr/>
        </p:nvCxnSpPr>
        <p:spPr>
          <a:xfrm rot="5400000">
            <a:off x="4979520" y="2292120"/>
            <a:ext cx="479880" cy="54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4" idx="0"/>
            <a:endCxn id="362" idx="0"/>
          </p:cNvCxnSpPr>
          <p:nvPr/>
        </p:nvCxnSpPr>
        <p:spPr>
          <a:xfrm rot="5400000">
            <a:off x="4578480" y="1946160"/>
            <a:ext cx="2520" cy="122616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3" name=""/>
          <p:cNvCxnSpPr/>
          <p:nvPr/>
        </p:nvCxnSpPr>
        <p:spPr>
          <a:xfrm rot="5400000">
            <a:off x="988200" y="3702600"/>
            <a:ext cx="2948760" cy="656280"/>
          </a:xfrm>
          <a:prstGeom prst="bentConnector4">
            <a:avLst>
              <a:gd name="adj1" fmla="val -7863"/>
              <a:gd name="adj2" fmla="val 125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135160" y="428616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Local Procurement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61" idx="2"/>
            <a:endCxn id="363" idx="0"/>
          </p:cNvCxnSpPr>
          <p:nvPr/>
        </p:nvCxnSpPr>
        <p:spPr>
          <a:xfrm rot="5400000">
            <a:off x="3777840" y="1090440"/>
            <a:ext cx="479880" cy="2458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1" idx="2"/>
            <a:endCxn id="365" idx="0"/>
          </p:cNvCxnSpPr>
          <p:nvPr/>
        </p:nvCxnSpPr>
        <p:spPr>
          <a:xfrm flipH="1" rot="16200000">
            <a:off x="5624280" y="1700640"/>
            <a:ext cx="478440" cy="1235880"/>
          </a:xfrm>
          <a:prstGeom prst="bentConnector3">
            <a:avLst>
              <a:gd name="adj1" fmla="val 4977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61" idx="2"/>
            <a:endCxn id="369" idx="0"/>
          </p:cNvCxnSpPr>
          <p:nvPr/>
        </p:nvCxnSpPr>
        <p:spPr>
          <a:xfrm flipH="1" rot="16200000">
            <a:off x="6151320" y="1173600"/>
            <a:ext cx="470520" cy="2282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2135160" y="378288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urement Engineering (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911160"/>
            <a:ext cx="823896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BenQ Corp reports a loss of ~150 Mio € for Q4 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 profits from IT and CE were not large enough to compensate for these lo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The key to BenQ turnaround is to improve the situation of BM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Despite significant progress (reduction of quarterly run rate by &gt; 40% in Q4 CY2005 / &gt; 100 Mio. €), cost position is not in line with revenue expect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target: 100 Mio € functional cost reduction in 2006 which will also affect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Structural adjustments will contribute to Value, Cost, and 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l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gional management structure is being reinfor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sef Forer is nominated as Eastern Europe Head (incl. MEA) and will assume regional coordination being part of the Extended Management Board (EM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nis Morel will assume responsibility for Western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 has been nominated as Chief Marketing Officer (CM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 will lead Marketing Operations (MO) to drive optimization of role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eld marketing moves into sales regions while HQ marketing focuses on building the brand, championing market development, and product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rs to drive the portfolio process and product road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 and Technology Management will be split up between Category Management and 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297160" y="1398600"/>
            <a:ext cx="66945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Supply Chain Management – Applying BenQ principles with regional manufactur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2" name=""/>
          <p:cNvSpPr/>
          <p:nvPr/>
        </p:nvSpPr>
        <p:spPr>
          <a:xfrm>
            <a:off x="2383200" y="146196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79680" y="1398600"/>
            <a:ext cx="67284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8444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0320" y="1403280"/>
            <a:ext cx="67932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6040" y="146520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55720" y="1409760"/>
            <a:ext cx="67932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32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195960" y="1866960"/>
            <a:ext cx="12254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56320" y="1549440"/>
            <a:ext cx="1438560" cy="60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Global SCM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br>
              <a:rPr sz="9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Kevin 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387160" y="2341440"/>
            <a:ext cx="5648400" cy="4349880"/>
            <a:chOff x="2387160" y="2341440"/>
            <a:chExt cx="5648400" cy="4349880"/>
          </a:xfrm>
        </p:grpSpPr>
        <p:sp>
          <p:nvSpPr>
            <p:cNvPr id="393" name=""/>
            <p:cNvSpPr/>
            <p:nvPr/>
          </p:nvSpPr>
          <p:spPr>
            <a:xfrm flipV="1">
              <a:off x="2403360" y="2346480"/>
              <a:ext cx="47750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608360" y="2341440"/>
              <a:ext cx="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7176600" y="235440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879880" y="236232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2880" y="5950080"/>
              <a:ext cx="4589640" cy="45216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2320" y="5156280"/>
              <a:ext cx="4588200" cy="452520"/>
            </a:xfrm>
            <a:custGeom>
              <a:avLst/>
              <a:gdLst>
                <a:gd name="textAreaLeft" fmla="*/ 0 w 4588200"/>
                <a:gd name="textAreaRight" fmla="*/ 4588560 w 458820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5920" y="4300560"/>
              <a:ext cx="4589640" cy="45252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0520" y="3489480"/>
              <a:ext cx="4589640" cy="45540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388960" y="2357280"/>
              <a:ext cx="7200" cy="39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400000">
              <a:off x="2476800" y="3981960"/>
              <a:ext cx="4191120" cy="12276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5065200" y="3976920"/>
              <a:ext cx="4191120" cy="12348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5400000">
              <a:off x="3765240" y="3978720"/>
              <a:ext cx="4191120" cy="12312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05000" y="2575080"/>
              <a:ext cx="1134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LAM</a:t>
              </a:r>
              <a:br>
                <a:rPr sz="1000"/>
              </a:b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Laurent Heisser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92720" y="2575080"/>
              <a:ext cx="11358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AS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Gerold Simbuer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90880" y="2573280"/>
              <a:ext cx="11484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EUROP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92680" y="3013200"/>
              <a:ext cx="11358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0400" y="30193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MA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01160" y="30211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89120" y="3022560"/>
              <a:ext cx="35640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84400" y="3021120"/>
              <a:ext cx="35424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73920" y="3021120"/>
              <a:ext cx="3546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97600" y="6297480"/>
              <a:ext cx="2275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388960" y="546588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387160" y="4545000"/>
              <a:ext cx="24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388960" y="3635280"/>
              <a:ext cx="24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39880" y="3309840"/>
              <a:ext cx="107748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rder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Fulfill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41320" y="4141800"/>
              <a:ext cx="1079640" cy="78264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M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terial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per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37720" y="4975200"/>
              <a:ext cx="107784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TL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Technolog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Lifecycle M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39880" y="5811840"/>
              <a:ext cx="1077480" cy="77796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Q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Quality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190400" y="3603600"/>
              <a:ext cx="3296520" cy="2680920"/>
              <a:chOff x="4190400" y="3603600"/>
              <a:chExt cx="3296520" cy="2680920"/>
            </a:xfrm>
          </p:grpSpPr>
          <p:sp>
            <p:nvSpPr>
              <p:cNvPr id="423" name=""/>
              <p:cNvSpPr/>
              <p:nvPr/>
            </p:nvSpPr>
            <p:spPr>
              <a:xfrm>
                <a:off x="4190400" y="605916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92880" y="6057720"/>
                <a:ext cx="72900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53600" y="605160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193280" y="5266440"/>
                <a:ext cx="72684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96120" y="5264640"/>
                <a:ext cx="72900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756840" y="525708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190400" y="440964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92880" y="44082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753600" y="440244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95800" y="3612600"/>
                <a:ext cx="72684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498280" y="36108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759000" y="360360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 flipV="1">
            <a:off x="5133960" y="208908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72080" y="1549440"/>
            <a:ext cx="2678040" cy="5983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Bernd Sch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Gerold Simbürger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Management System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39680" y="1860480"/>
            <a:ext cx="698832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Business and cost control requires increased transparency, speed, and compatibility with BenQ Corp.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spective controlling and management tools need to be established and / or consolidated / improv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st down programs needs to be executed consequently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ocused attention beyond daily operational business requir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9" name=""/>
          <p:cNvSpPr/>
          <p:nvPr/>
        </p:nvSpPr>
        <p:spPr>
          <a:xfrm>
            <a:off x="630360" y="5207040"/>
            <a:ext cx="8102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as per April 1</a:t>
            </a:r>
            <a:r>
              <a:rPr b="1" lang="en-US" sz="24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3320" y="48960"/>
            <a:ext cx="83422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BenQ Mobile Group governance structure (April 2006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2" name=""/>
          <p:cNvSpPr/>
          <p:nvPr/>
        </p:nvSpPr>
        <p:spPr>
          <a:xfrm>
            <a:off x="806400" y="809640"/>
            <a:ext cx="745344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enQ Mobile Business Group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lemens J. Joos (CEO), Jerry Wang (Chairman), Irwin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95240" y="1368360"/>
            <a:ext cx="5106960" cy="2171880"/>
            <a:chOff x="795240" y="1368360"/>
            <a:chExt cx="5106960" cy="2171880"/>
          </a:xfrm>
        </p:grpSpPr>
        <p:sp>
          <p:nvSpPr>
            <p:cNvPr id="444" name=""/>
            <p:cNvSpPr/>
            <p:nvPr/>
          </p:nvSpPr>
          <p:spPr>
            <a:xfrm>
              <a:off x="795240" y="1368360"/>
              <a:ext cx="5106960" cy="217188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25360" y="1415880"/>
              <a:ext cx="4446720" cy="328680"/>
            </a:xfrm>
            <a:prstGeom prst="rect">
              <a:avLst/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duct House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br>
                <a:rPr sz="3200"/>
              </a:b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</a:t>
              </a: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Jochen Eickholt &amp;  Irwin Che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11160" y="177480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&amp;D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iegfried Bocionek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Yungchia Le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1160" y="221616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C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Bernd Schmid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Gerold Simbuer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1160" y="265752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trategic Procur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acting Jens Danneil  &amp; 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resa Wu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1160" y="309888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chnical P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Holger Asmussen &amp;  Pat Hsu &amp;  act. Katrin Bra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0680" y="6232320"/>
            <a:ext cx="6524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975040"/>
                <a:tab algn="l" pos="46641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000" spc="-1" strike="noStrike">
                <a:solidFill>
                  <a:srgbClr val="1e0a63"/>
                </a:solidFill>
                <a:latin typeface="Minion"/>
              </a:rPr>
              <a:t>1) Have dedicated Business Administration (BA) function    2) including Regional Marketing   3) Reporting to Jerry Wa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9120" y="6035760"/>
            <a:ext cx="7470720" cy="245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9120" y="4081320"/>
            <a:ext cx="245088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Global Marketing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ichard Leong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Sandra Rub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9120" y="3610080"/>
            <a:ext cx="5113080" cy="399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3528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ategory  Manag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Phil Mulholland &amp; 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Harrison Ch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89120" y="5649840"/>
            <a:ext cx="511308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ustomer Care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Stefan Plet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037200" y="3781440"/>
            <a:ext cx="2222640" cy="2524320"/>
            <a:chOff x="6037200" y="3781440"/>
            <a:chExt cx="2222640" cy="2524320"/>
          </a:xfrm>
        </p:grpSpPr>
        <p:sp>
          <p:nvSpPr>
            <p:cNvPr id="456" name=""/>
            <p:cNvSpPr/>
            <p:nvPr/>
          </p:nvSpPr>
          <p:spPr>
            <a:xfrm>
              <a:off x="6037200" y="3781440"/>
              <a:ext cx="222264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19640" y="3809880"/>
              <a:ext cx="2140200" cy="24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ject Office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Karl Kornwolf &amp; Theresa Ch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Strategy &amp; Communication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rco Stuelpn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QM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新細明體"/>
                </a:rPr>
                <a:t>1)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Alexander Filler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H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Nils-Peter Daet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IS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tthias Schneider-Hufschmid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037200" y="1351080"/>
            <a:ext cx="2222640" cy="2350800"/>
            <a:chOff x="6037200" y="1351080"/>
            <a:chExt cx="2222640" cy="2350800"/>
          </a:xfrm>
        </p:grpSpPr>
        <p:sp>
          <p:nvSpPr>
            <p:cNvPr id="459" name=""/>
            <p:cNvSpPr/>
            <p:nvPr/>
          </p:nvSpPr>
          <p:spPr>
            <a:xfrm>
              <a:off x="6037200" y="1351080"/>
              <a:ext cx="2222640" cy="23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19640" y="1406520"/>
              <a:ext cx="20844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Finance</a:t>
              </a: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(Alex Lio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Accounting &amp; Finance, Legal Services, Taxes, Treas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19640" y="2241720"/>
              <a:ext cx="205596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Controlling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Lydia Sommer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Planning &amp; Controlling, Sales Operations Controlling, Pricing Office, IT, Audit, Corp.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19640" y="3259080"/>
              <a:ext cx="2055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BMG Management System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David Wang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452760" y="4068720"/>
            <a:ext cx="244800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ifestyle Design Centre Munich</a:t>
            </a:r>
            <a:r>
              <a:rPr b="1" lang="en-US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Jonathan Yin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89120" y="4545000"/>
            <a:ext cx="5244840" cy="1181160"/>
            <a:chOff x="789120" y="4545000"/>
            <a:chExt cx="5244840" cy="1181160"/>
          </a:xfrm>
        </p:grpSpPr>
        <p:sp>
          <p:nvSpPr>
            <p:cNvPr id="465" name=""/>
            <p:cNvSpPr/>
            <p:nvPr/>
          </p:nvSpPr>
          <p:spPr>
            <a:xfrm>
              <a:off x="789120" y="4545000"/>
              <a:ext cx="5111640" cy="1057320"/>
            </a:xfrm>
            <a:prstGeom prst="rect">
              <a:avLst/>
            </a:pr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Sales </a:t>
              </a:r>
              <a:r>
                <a:rPr b="1" lang="en-US" sz="1200" spc="-1" strike="noStrike" baseline="30000">
                  <a:solidFill>
                    <a:srgbClr val="3a0e66"/>
                  </a:solidFill>
                  <a:latin typeface="Minion"/>
                </a:rPr>
                <a:t>1, 2)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6920" y="4735440"/>
              <a:ext cx="259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Western EUR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Denis More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Eastern EUR / MEA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Josef For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Sales Coordinatio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Martin Furuset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38520" y="4735440"/>
              <a:ext cx="23954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APAC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acting Y.S.Che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LAM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Guy Spillebeen)</a:t>
              </a: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China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Danny HC Ya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403440" y="4038480"/>
            <a:ext cx="2530800" cy="470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aseline is within reach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2160" y="2006640"/>
            <a:ext cx="7023240" cy="21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nsequent implementation of specified project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inalization of detailed organizational structure until end of Marc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Secure identified and realized cost run rate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Go the last mile on cost saving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" y="5572800"/>
            <a:ext cx="81025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efocus on top line profitable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673360" y="3060720"/>
            <a:ext cx="3124080" cy="300996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2600" y="3489480"/>
            <a:ext cx="1415880" cy="129852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0200" y="262080"/>
            <a:ext cx="8534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Mobile Business Regaining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1720" y="1135080"/>
            <a:ext cx="9284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73360" y="1135080"/>
            <a:ext cx="59832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11720" y="3427560"/>
            <a:ext cx="1152720" cy="50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200" y="1666800"/>
            <a:ext cx="181296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20016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</a:rPr>
              <a:t>Plain-vanilla portfol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27120" y="1666800"/>
            <a:ext cx="36784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Market l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Compelling on lifestyle benefi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Potent multimedia fu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36800" y="3859200"/>
            <a:ext cx="685800" cy="609480"/>
          </a:xfrm>
          <a:prstGeom prst="rightArrow">
            <a:avLst>
              <a:gd name="adj1" fmla="val 50000"/>
              <a:gd name="adj2" fmla="val 52094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5040" y="1135080"/>
            <a:ext cx="29419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ASP over last five quar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00400" y="5105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rcRect l="0" t="1417" r="0" b="0"/>
          <a:stretch/>
        </p:blipFill>
        <p:spPr>
          <a:xfrm>
            <a:off x="3224160" y="3429000"/>
            <a:ext cx="522360" cy="10717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rcRect l="0" t="3543" r="0" b="0"/>
          <a:stretch/>
        </p:blipFill>
        <p:spPr>
          <a:xfrm>
            <a:off x="4021200" y="3368520"/>
            <a:ext cx="420480" cy="11052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rcRect l="0" t="0" r="3296" b="0"/>
          <a:stretch/>
        </p:blipFill>
        <p:spPr>
          <a:xfrm>
            <a:off x="4695840" y="3489480"/>
            <a:ext cx="480960" cy="860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346560" y="428940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81320" y="4289400"/>
            <a:ext cx="7351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2979720" y="4719600"/>
            <a:ext cx="763560" cy="9097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3591000" y="4780080"/>
            <a:ext cx="981000" cy="8841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4511520" y="4719600"/>
            <a:ext cx="1051200" cy="1035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4754520" y="539604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84640" y="539604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57480" y="5396040"/>
            <a:ext cx="736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54520" y="428940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334200" y="2568600"/>
          <a:ext cx="224640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34200" y="2568600"/>
                    <a:ext cx="22464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6692760" y="2936880"/>
            <a:ext cx="2022480" cy="685800"/>
          </a:xfrm>
          <a:custGeom>
            <a:avLst/>
            <a:gdLst/>
            <a:ahLst/>
            <a:rect l="l" t="t" r="r" b="b"/>
            <a:pathLst>
              <a:path w="1497" h="506">
                <a:moveTo>
                  <a:pt x="0" y="0"/>
                </a:moveTo>
                <a:cubicBezTo>
                  <a:pt x="136" y="140"/>
                  <a:pt x="272" y="280"/>
                  <a:pt x="408" y="363"/>
                </a:cubicBezTo>
                <a:cubicBezTo>
                  <a:pt x="544" y="446"/>
                  <a:pt x="672" y="506"/>
                  <a:pt x="816" y="499"/>
                </a:cubicBezTo>
                <a:cubicBezTo>
                  <a:pt x="960" y="492"/>
                  <a:pt x="1157" y="371"/>
                  <a:pt x="1270" y="318"/>
                </a:cubicBezTo>
                <a:cubicBezTo>
                  <a:pt x="1383" y="265"/>
                  <a:pt x="1459" y="205"/>
                  <a:pt x="1497" y="182"/>
                </a:cubicBezTo>
              </a:path>
            </a:pathLst>
          </a:custGeom>
          <a:noFill/>
          <a:ln w="38160">
            <a:solidFill>
              <a:srgbClr val="a6a0c2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3080" y="3859200"/>
            <a:ext cx="442800" cy="4921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1480" y="3859200"/>
            <a:ext cx="442800" cy="4906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01680" y="3859200"/>
            <a:ext cx="43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8920" y="47160"/>
            <a:ext cx="77821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aunching BenQ-Siemens with a 3-event strategy targeting diverse key audienc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2" name=""/>
          <p:cNvSpPr/>
          <p:nvPr/>
        </p:nvSpPr>
        <p:spPr>
          <a:xfrm>
            <a:off x="190440" y="1473120"/>
            <a:ext cx="8788320" cy="3949920"/>
          </a:xfrm>
          <a:custGeom>
            <a:avLst/>
            <a:gdLst/>
            <a:ahLst/>
            <a:rect l="l" t="t" r="r" b="b"/>
            <a:pathLst>
              <a:path w="5506" h="2627">
                <a:moveTo>
                  <a:pt x="0" y="1988"/>
                </a:moveTo>
                <a:cubicBezTo>
                  <a:pt x="56" y="1877"/>
                  <a:pt x="99" y="1319"/>
                  <a:pt x="341" y="1319"/>
                </a:cubicBezTo>
                <a:cubicBezTo>
                  <a:pt x="583" y="1319"/>
                  <a:pt x="879" y="2626"/>
                  <a:pt x="1214" y="2626"/>
                </a:cubicBezTo>
                <a:cubicBezTo>
                  <a:pt x="1549" y="2626"/>
                  <a:pt x="1778" y="966"/>
                  <a:pt x="2088" y="966"/>
                </a:cubicBezTo>
                <a:cubicBezTo>
                  <a:pt x="2398" y="966"/>
                  <a:pt x="2651" y="2627"/>
                  <a:pt x="2961" y="2626"/>
                </a:cubicBezTo>
                <a:cubicBezTo>
                  <a:pt x="3271" y="2625"/>
                  <a:pt x="3490" y="607"/>
                  <a:pt x="3840" y="606"/>
                </a:cubicBezTo>
                <a:cubicBezTo>
                  <a:pt x="4190" y="605"/>
                  <a:pt x="4385" y="2626"/>
                  <a:pt x="4707" y="2626"/>
                </a:cubicBezTo>
                <a:cubicBezTo>
                  <a:pt x="5029" y="2626"/>
                  <a:pt x="5340" y="547"/>
                  <a:pt x="5506" y="0"/>
                </a:cubicBezTo>
              </a:path>
            </a:pathLst>
          </a:custGeom>
          <a:noFill/>
          <a:ln w="38160">
            <a:solidFill>
              <a:srgbClr val="b09f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70200" y="2244600"/>
            <a:ext cx="7080120" cy="0"/>
          </a:xfrm>
          <a:prstGeom prst="line">
            <a:avLst/>
          </a:prstGeom>
          <a:ln w="28440">
            <a:solidFill>
              <a:srgbClr val="8076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481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91720" y="264492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89864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51680" y="264492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060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45800" y="264492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8000" y="3171960"/>
            <a:ext cx="9936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8000" y="5008680"/>
            <a:ext cx="822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481800" y="1192320"/>
            <a:ext cx="2205000" cy="4365360"/>
            <a:chOff x="6481800" y="1192320"/>
            <a:chExt cx="2205000" cy="4365360"/>
          </a:xfrm>
        </p:grpSpPr>
        <p:sp>
          <p:nvSpPr>
            <p:cNvPr id="513" name=""/>
            <p:cNvSpPr/>
            <p:nvPr/>
          </p:nvSpPr>
          <p:spPr>
            <a:xfrm>
              <a:off x="6481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1"/>
            <a:stretch/>
          </p:blipFill>
          <p:spPr>
            <a:xfrm>
              <a:off x="7365960" y="2333520"/>
              <a:ext cx="595440" cy="52236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515" name=""/>
            <p:cNvSpPr/>
            <p:nvPr/>
          </p:nvSpPr>
          <p:spPr>
            <a:xfrm>
              <a:off x="6481800" y="3171960"/>
              <a:ext cx="220500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eBIT 2006 Han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launch of "Exploration"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0800000">
              <a:off x="65516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81800" y="5008680"/>
              <a:ext cx="2184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and general 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6481800" y="1192320"/>
              <a:ext cx="220500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1798560" y="1197000"/>
            <a:ext cx="2227320" cy="5183640"/>
            <a:chOff x="1798560" y="1197000"/>
            <a:chExt cx="2227320" cy="5183640"/>
          </a:xfrm>
        </p:grpSpPr>
        <p:sp>
          <p:nvSpPr>
            <p:cNvPr id="520" name=""/>
            <p:cNvSpPr/>
            <p:nvPr/>
          </p:nvSpPr>
          <p:spPr>
            <a:xfrm>
              <a:off x="1889280" y="1197000"/>
              <a:ext cx="195552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22320" y="3171960"/>
              <a:ext cx="22035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3"/>
            <a:stretch/>
          </p:blipFill>
          <p:spPr>
            <a:xfrm>
              <a:off x="1889280" y="1197000"/>
              <a:ext cx="195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rot="10800000">
              <a:off x="179856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2320" y="5008680"/>
              <a:ext cx="20894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op tier news, business and </a:t>
              </a:r>
              <a:br>
                <a:rPr sz="18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dustry medi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ailored analyst brief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2540160" y="2268360"/>
              <a:ext cx="765000" cy="854280"/>
              <a:chOff x="2540160" y="2268360"/>
              <a:chExt cx="765000" cy="854280"/>
            </a:xfrm>
          </p:grpSpPr>
          <p:pic>
            <p:nvPicPr>
              <p:cNvPr id="5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0160" y="2268360"/>
                <a:ext cx="76500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2565360" y="2392200"/>
                <a:ext cx="73656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  <a:ea typeface="文鼎中黑"/>
                  </a:rPr>
                  <a:t>BenQ-Siem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"/>
          <p:cNvGrpSpPr/>
          <p:nvPr/>
        </p:nvGrpSpPr>
        <p:grpSpPr>
          <a:xfrm>
            <a:off x="4060800" y="1197000"/>
            <a:ext cx="2205000" cy="5457960"/>
            <a:chOff x="4060800" y="1197000"/>
            <a:chExt cx="2205000" cy="5457960"/>
          </a:xfrm>
        </p:grpSpPr>
        <p:sp>
          <p:nvSpPr>
            <p:cNvPr id="529" name=""/>
            <p:cNvSpPr/>
            <p:nvPr/>
          </p:nvSpPr>
          <p:spPr>
            <a:xfrm>
              <a:off x="4060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0" name="" descr=""/>
            <p:cNvPicPr/>
            <p:nvPr/>
          </p:nvPicPr>
          <p:blipFill>
            <a:blip r:embed="rId5"/>
            <a:stretch/>
          </p:blipFill>
          <p:spPr>
            <a:xfrm>
              <a:off x="4060800" y="1197000"/>
              <a:ext cx="22050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4060800" y="3171960"/>
              <a:ext cx="220500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SM Barcel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irst detailed hands-on exposure of BenQ-Siemens to larger B2B and press aud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0800000">
              <a:off x="41180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060800" y="5008680"/>
              <a:ext cx="21844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ocus on technology and trade pr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uilding on momentum from 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6"/>
            <a:stretch/>
          </p:blipFill>
          <p:spPr>
            <a:xfrm>
              <a:off x="4572000" y="2414520"/>
              <a:ext cx="119052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CeBIT Impress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06280" y="1135080"/>
            <a:ext cx="1343160" cy="100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206280" y="2147760"/>
            <a:ext cx="1346400" cy="10083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206280" y="3156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206280" y="4164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1595520" y="1130400"/>
            <a:ext cx="3708360" cy="2466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5357880" y="3699000"/>
            <a:ext cx="3708360" cy="2473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7"/>
          <a:stretch/>
        </p:blipFill>
        <p:spPr>
          <a:xfrm>
            <a:off x="5357880" y="1125360"/>
            <a:ext cx="3708360" cy="2473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8"/>
          <a:stretch/>
        </p:blipFill>
        <p:spPr>
          <a:xfrm>
            <a:off x="209520" y="5172120"/>
            <a:ext cx="1343160" cy="10065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9"/>
          <a:stretch/>
        </p:blipFill>
        <p:spPr>
          <a:xfrm>
            <a:off x="1595520" y="370188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 (cont.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393840" y="911160"/>
            <a:ext cx="8238960" cy="61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</a:rPr>
              <a:t>Structural adjustments will contribute to Value, Cost, and Speed (con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realization of synergies within the two product houses is not satisf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refore they are consolidated and headed jointly by Dr. Jochen Eickholt &amp; Dr. Irw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 structures will be standardized and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bs and tasks from Ulm are transferred to Munich or Kamp Lintfort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Customer Care will be positioned as the first independent global after-sales-company for the consumer electronics industry (exclusive partner for BenQ Mobile products, preferred partner for BenQ Corp. in Europe, and soliciting third party busin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to drive forward the BMG Managem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new Lifestyle Design Center in Munich will be headed by Jonathan 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urnaround efforts are becoming 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ccessful brand launch trilogy is restoring customer confidence and creating consumer enthusia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dominated the media agenda during CeBIT 2006 with 5 times as many press clippings as all competitors together around the first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w products with exciting lifestyle benefits are already driving the 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ership position has been gained in innovation (e.g. HSDPA, OLED), in design and user experience (e.g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terials, mechanics, miniaturization)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, and multimedia and applications (e.g. cameras, Google se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ing operators are listing our products – one major German operator even delisted Samsung in favor of BenQ-Sieme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eline is within reach:  Last mile on cost saving to go, refocus on top line profitable growth subsequent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560" y="1787400"/>
            <a:ext cx="7515360" cy="358632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49320"/>
            <a:ext cx="79898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ey target for Q1 CY2006 was to achieve operational and market stabilit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1252440" y="2077920"/>
            <a:ext cx="631692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topping volume erosion in Q3 and Q4 CY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ecure transition / carve out of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Reorganize / integrate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Reduce cost to achieve 500 Mio €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hieve credibility with consumers: Outstanding operator listings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0919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28752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2688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4841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3885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47160"/>
            <a:ext cx="86234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Corp reports a loss of ~150 Mio € for Q4 CY2005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7040" y="1071720"/>
            <a:ext cx="8134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Handset product line was focused low margin products –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products with little or no competitive strength were clear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Unscheduled delays (missed time-to-market) occurred in releasing new, competitiv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During the transition, some divisions incurred additional expenses when adjusting their inventories and closing bad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We are still bound to some material providers by long-term contracts – 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Cost-down measures will become effective not until Q2 CY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, profits from IT and CE were not large enough to compensate for the losses in the handset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5424480"/>
            <a:ext cx="829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key to BenQ turnaround is to improve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situation of BM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-163800"/>
            <a:ext cx="85536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unctional cost were taken down while safeguarding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perational capability (R&amp;D, CM &amp; Sale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"/>
          <p:cNvSpPr/>
          <p:nvPr/>
        </p:nvSpPr>
        <p:spPr>
          <a:xfrm>
            <a:off x="48117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117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1128600"/>
            <a:ext cx="3299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Jan. 2006 vs. Jan.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95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95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7800" y="1280880"/>
            <a:ext cx="32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Q4 2005 vs. Q4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08240" y="2265480"/>
          <a:ext cx="2970000" cy="29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098800" y="1946160"/>
            <a:ext cx="1385640" cy="111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9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6040" y="2367000"/>
            <a:ext cx="5493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4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98720" y="2298600"/>
            <a:ext cx="46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3560" y="273852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571920"/>
            <a:ext cx="95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6920" y="4500720"/>
            <a:ext cx="469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718240" y="2265480"/>
          <a:ext cx="2970000" cy="29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508800" y="2066760"/>
            <a:ext cx="13860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273400"/>
            <a:ext cx="54900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2309760"/>
            <a:ext cx="46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03920" y="270828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9840" y="3446640"/>
            <a:ext cx="957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6920" y="44146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0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62240" y="5508720"/>
            <a:ext cx="1469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813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48480" y="5508720"/>
            <a:ext cx="1488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769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82960" y="1717200"/>
            <a:ext cx="1428840" cy="730440"/>
            <a:chOff x="2982960" y="1717200"/>
            <a:chExt cx="1428840" cy="730440"/>
          </a:xfrm>
        </p:grpSpPr>
        <p:sp>
          <p:nvSpPr>
            <p:cNvPr id="102" name=""/>
            <p:cNvSpPr/>
            <p:nvPr/>
          </p:nvSpPr>
          <p:spPr>
            <a:xfrm>
              <a:off x="2982960" y="1733400"/>
              <a:ext cx="1428840" cy="698760"/>
            </a:xfrm>
            <a:prstGeom prst="ellipse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3680" y="1717200"/>
              <a:ext cx="1427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st re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&gt; 100 Mio 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 hidden="1"/>
          <p:cNvSpPr/>
          <p:nvPr/>
        </p:nvSpPr>
        <p:spPr>
          <a:xfrm>
            <a:off x="52560" y="-74520"/>
            <a:ext cx="50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440" y="49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spite significant progress, cost position is not in line with revenue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760" y="1108080"/>
            <a:ext cx="520668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Better alignment of CM and 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rovement of market intimacy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zation of synergy potent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BoM sav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cut of functional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Spe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lignment of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reduction of R&amp;D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3358800" y="2948040"/>
            <a:ext cx="4359240" cy="374760"/>
          </a:xfrm>
          <a:prstGeom prst="triangle">
            <a:avLst>
              <a:gd name="adj" fmla="val 50000"/>
            </a:avLst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1686960"/>
            <a:ext cx="306072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</a:rPr>
              <a:t>Structural adjust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l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structure and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9120" y="5566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arget: Additional 100 Mio € functional cost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duction in 2006 will also affect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000" y="92556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160" y="225432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160" y="401328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6280" y="33120"/>
            <a:ext cx="85010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Customer Care is a well managed organization 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37960" y="932040"/>
            <a:ext cx="8785440" cy="5560200"/>
            <a:chOff x="237960" y="932040"/>
            <a:chExt cx="8785440" cy="5560200"/>
          </a:xfrm>
        </p:grpSpPr>
        <p:grpSp>
          <p:nvGrpSpPr>
            <p:cNvPr id="116" name=""/>
            <p:cNvGrpSpPr/>
            <p:nvPr/>
          </p:nvGrpSpPr>
          <p:grpSpPr>
            <a:xfrm>
              <a:off x="237960" y="932040"/>
              <a:ext cx="8785440" cy="5560200"/>
              <a:chOff x="237960" y="932040"/>
              <a:chExt cx="8785440" cy="5560200"/>
            </a:xfrm>
          </p:grpSpPr>
          <p:sp>
            <p:nvSpPr>
              <p:cNvPr id="117" name=""/>
              <p:cNvSpPr/>
              <p:nvPr/>
            </p:nvSpPr>
            <p:spPr>
              <a:xfrm>
                <a:off x="4091040" y="932040"/>
                <a:ext cx="4932360" cy="4381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ctr">
                <a:noAutofit/>
              </a:bodyPr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et up CC as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irst global after-sales-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nsumer electronics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indust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pin-ou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all international service activities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of BMG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into a separate legal entity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(CC NewC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xclusive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Mobile produ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Preferred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Corp. in 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olici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hird party busines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8892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New 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o be set up asap,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transition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scheduled for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nd of June, 2006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7960" y="5545080"/>
                <a:ext cx="8418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... developing from a cost to a profit center </a:t>
                </a:r>
                <a:br>
                  <a:rPr sz="2800"/>
                </a:b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or further profitable growt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 rot="10800000">
              <a:off x="5536800" y="4205160"/>
              <a:ext cx="1724040" cy="176400"/>
            </a:xfrm>
            <a:prstGeom prst="triangle">
              <a:avLst>
                <a:gd name="adj" fmla="val 50000"/>
              </a:avLst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79280" y="933480"/>
            <a:ext cx="4030920" cy="4395600"/>
          </a:xfrm>
          <a:custGeom>
            <a:avLst/>
            <a:gdLst>
              <a:gd name="textAreaLeft" fmla="*/ 0 w 4030920"/>
              <a:gd name="textAreaRight" fmla="*/ 4031280 w 4030920"/>
              <a:gd name="textAreaTop" fmla="*/ 0 h 4395600"/>
              <a:gd name="textAreaBottom" fmla="*/ 4395960 h 439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5" y="0"/>
                </a:lnTo>
                <a:lnTo>
                  <a:pt x="21600" y="10800"/>
                </a:lnTo>
                <a:lnTo>
                  <a:pt x="197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op tier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in internal (BenQ) and external 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Operational  process excell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Global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foot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nd people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dditional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cope and scale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could further drive CC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busines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e.g. BenQ Cor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volume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3</a:t>
            </a:r>
            <a:r>
              <a:rPr b="0" lang="en-US" sz="20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rd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party mobile busi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010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ite consolidation will be consequently executed, jobs and tasks from Ulm are transferred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520560" y="1496880"/>
            <a:ext cx="7515360" cy="46260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2440" y="1787400"/>
            <a:ext cx="63169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ll jobs are preserved – no layof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The jobs will be located in Munich Headquarters</a:t>
            </a:r>
            <a:br>
              <a:rPr sz="2200"/>
            </a:b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(or in Kamp Lintfort if desir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ctual tasks are shifted with the workpl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Better utilization of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Full involvement in core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Right sizing of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ScheubleS</cp:lastModifiedBy>
  <dcterms:modified xsi:type="dcterms:W3CDTF">2006-03-17T17:02:46Z</dcterms:modified>
  <cp:revision>526</cp:revision>
  <dc:subject/>
  <dc:title>All-hands meeting</dc:title>
</cp:coreProperties>
</file>